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A00E-9AAB-41EC-B05F-92217484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354A-403C-45C5-909D-326B522F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E775-AFCD-4BDC-B682-FA96E87B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A6E6-0BE8-42C2-98B7-D2D7EE51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BCCE-42ED-4043-9B0A-BD98553F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8D7B-1959-4C2E-A454-A2C2D0C9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B52C-1D05-4C75-A168-C39D236B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EB04-47AB-407F-ABC3-436DD230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7717-89D8-4435-AB43-00A347BD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8C08-0E61-4CDF-BCB4-2A5FC1BE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8550-1D15-4106-81D1-B493478B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18AA-6EC8-482E-9E02-2D564454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A31A-71A6-4DDC-B7DF-BB4AB2D79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4265640"/>
            <a:ext cx="85690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عتراف بها في الق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ثناء على الله باللس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عمل بالجوارح بما يرضي المنع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8163000" cy="1743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4"/>
          <a:stretch/>
        </p:blipFill>
        <p:spPr>
          <a:xfrm>
            <a:off x="3917880" y="3716280"/>
            <a:ext cx="5016600" cy="596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24000" y="2637000"/>
            <a:ext cx="8569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كل ما أنزله الله لعباده حلالاً إلا ما حرمه الله علي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13"/>
          <a:stretch/>
        </p:blipFill>
        <p:spPr>
          <a:xfrm>
            <a:off x="539640" y="2924280"/>
            <a:ext cx="81360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87640" y="4653000"/>
            <a:ext cx="347976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8856720" cy="5761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239760" y="1712880"/>
            <a:ext cx="8786880" cy="4884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-9360" y="92376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5222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دني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1015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زلة القرآن الكري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5799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سلام و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805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كذبون على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 القرآن وعظمته لما يحمله من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واعظ والهدى والرحمة والشفاء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فاية القرآن في علاج أمراض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قلوب من الشبهات والشهو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وجيه الدعاة والمصلحين والمربين إلى الاستناد في الإصلاح عل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تاب والس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عمة الاستقامة والإيمان وفهم القرآن والعمل به أعظم من النع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دنيوية قاطب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نتفع بمواعظ القرآن إل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 الذي يبحث عن الحق ويلتزمه إذا عرف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شريع والتحليل والتحريم حق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وح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79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قديم  رأي أي أحد على حكم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38020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فتاء بغير عل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افتراء الكذب على الله وصاحبه مستحق للعذ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3"/>
          <a:stretch/>
        </p:blipFill>
        <p:spPr>
          <a:xfrm>
            <a:off x="295200" y="981000"/>
            <a:ext cx="8658360" cy="66672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324000" y="191628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فرح المحموم هو : بدين الل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فرح المذموم هو : على المعاصي والمحرم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0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214200" y="1557360"/>
            <a:ext cx="862488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5:30:02Z</dcterms:modified>
  <cp:revision>1969</cp:revision>
  <dc:subject/>
  <dc:title>عرض تقديمي في PowerPoint</dc:title>
</cp:coreProperties>
</file>